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85B92-7866-4B2E-A252-55648F6182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122EE-71DA-4A87-8F6A-CFD7EF465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A2455-8FE7-491E-89C2-8C63DDBFC04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17D3-6E70-437E-8375-1B5B3A186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CEB-72C8-43D2-854D-E51FE893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FF0-0FE2-482D-901F-A1DA7F27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D20-A925-4E4F-86F8-426C8F27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CA1-A325-4266-B784-F7825E27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02A-3387-43CC-9EAF-D9A36198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C1D-303E-4684-8ADE-1F509D8B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2BC-25C7-4D02-B70C-F5D15A6F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B92A-9663-4805-894F-9F6F5957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A808-14CF-437D-99DF-2693D9A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904-37C8-4DE4-A732-4CB2E1C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5D6-584E-4B6E-8061-38B441F1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D2919F-A24C-4C5C-B450-6F01DE1744ED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F815E-45E6-482B-9852-18D0332CE1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1600" y="442800"/>
            <a:ext cx="8688240" cy="274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Transition to 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~ PA Common Core Standards ~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English Language Arts,</a:t>
            </a:r>
            <a:br>
              <a:rPr sz="3600"/>
            </a:br>
            <a:r>
              <a:rPr b="1" i="1" lang="en-US" sz="3600" spc="-1" strike="noStrike">
                <a:solidFill>
                  <a:srgbClr val="3659b1"/>
                </a:solidFill>
                <a:latin typeface="Calibri"/>
              </a:rPr>
              <a:t>Literacy across the Curriculu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01240" y="3587760"/>
            <a:ext cx="703260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An Overview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Background, Expectation, &amp; Explor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FCASD prepared with support from the AIU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e30000"/>
                </a:solidFill>
                <a:latin typeface="Calibri"/>
              </a:rPr>
              <a:t>June/August 201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685800" y="2174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Common Core Standards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Placeholder 2"/>
          <p:cNvSpPr/>
          <p:nvPr/>
        </p:nvSpPr>
        <p:spPr>
          <a:xfrm>
            <a:off x="309600" y="1687680"/>
            <a:ext cx="862812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viewing standards throughout the webs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Grades 6-12 Literacy in History/Social Studies, Science, &amp; Technical Subjects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(bottom left s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Ancho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History/Social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Science &amp; Technical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Wr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PA Common Core Standards </a:t>
            </a:r>
            <a:br>
              <a:rPr sz="4000"/>
            </a:b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rc 1"/>
          <p:cNvSpPr/>
          <p:nvPr/>
        </p:nvSpPr>
        <p:spPr>
          <a:xfrm>
            <a:off x="361800" y="1181160"/>
            <a:ext cx="840132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rc 2"/>
          <p:cNvSpPr/>
          <p:nvPr/>
        </p:nvSpPr>
        <p:spPr>
          <a:xfrm>
            <a:off x="361800" y="2057400"/>
            <a:ext cx="8401320" cy="7621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61800" y="3124080"/>
            <a:ext cx="15624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057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9880" y="3124080"/>
            <a:ext cx="154332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486400" y="3124080"/>
            <a:ext cx="161928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96120" y="3124080"/>
            <a:ext cx="1467000" cy="16002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 flipH="1">
            <a:off x="1143000" y="213372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 flipH="1">
            <a:off x="2866680" y="208440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 flipH="1">
            <a:off x="4581360" y="208440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Straight Connector 11"/>
          <p:cNvSpPr/>
          <p:nvPr/>
        </p:nvSpPr>
        <p:spPr>
          <a:xfrm>
            <a:off x="5867280" y="2057400"/>
            <a:ext cx="42876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Straight Connector 12"/>
          <p:cNvSpPr/>
          <p:nvPr/>
        </p:nvSpPr>
        <p:spPr>
          <a:xfrm>
            <a:off x="6705720" y="2084400"/>
            <a:ext cx="132372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379440" y="4856040"/>
            <a:ext cx="8307360" cy="162108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9"/>
          <p:cNvSpPr/>
          <p:nvPr/>
        </p:nvSpPr>
        <p:spPr>
          <a:xfrm>
            <a:off x="1228680" y="18097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ight Arrow 15"/>
          <p:cNvSpPr/>
          <p:nvPr/>
        </p:nvSpPr>
        <p:spPr>
          <a:xfrm>
            <a:off x="504720" y="493380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ight Arrow 16"/>
          <p:cNvSpPr/>
          <p:nvPr/>
        </p:nvSpPr>
        <p:spPr>
          <a:xfrm>
            <a:off x="504720" y="525924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ight Arrow 17"/>
          <p:cNvSpPr/>
          <p:nvPr/>
        </p:nvSpPr>
        <p:spPr>
          <a:xfrm>
            <a:off x="534960" y="5884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ight Arrow 18"/>
          <p:cNvSpPr/>
          <p:nvPr/>
        </p:nvSpPr>
        <p:spPr>
          <a:xfrm>
            <a:off x="523800" y="5557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44"/>
          <p:cNvSpPr/>
          <p:nvPr/>
        </p:nvSpPr>
        <p:spPr>
          <a:xfrm>
            <a:off x="809640" y="485604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5"/>
          <p:cNvSpPr/>
          <p:nvPr/>
        </p:nvSpPr>
        <p:spPr>
          <a:xfrm>
            <a:off x="838080" y="51814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6"/>
          <p:cNvSpPr/>
          <p:nvPr/>
        </p:nvSpPr>
        <p:spPr>
          <a:xfrm>
            <a:off x="828720" y="547992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839880" y="5735520"/>
            <a:ext cx="78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pendix D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teracy standards for History and Social Stud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49"/>
          <p:cNvSpPr/>
          <p:nvPr/>
        </p:nvSpPr>
        <p:spPr>
          <a:xfrm>
            <a:off x="2112840" y="306072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50"/>
          <p:cNvSpPr/>
          <p:nvPr/>
        </p:nvSpPr>
        <p:spPr>
          <a:xfrm>
            <a:off x="4141080" y="3122640"/>
            <a:ext cx="95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1"/>
          <p:cNvSpPr/>
          <p:nvPr/>
        </p:nvSpPr>
        <p:spPr>
          <a:xfrm>
            <a:off x="578520" y="308628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ounda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kil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2"/>
          <p:cNvSpPr/>
          <p:nvPr/>
        </p:nvSpPr>
        <p:spPr>
          <a:xfrm>
            <a:off x="5928840" y="3122640"/>
            <a:ext cx="73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7338960" y="3086280"/>
            <a:ext cx="14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peaking &amp; List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5"/>
          <p:cNvSpPr/>
          <p:nvPr/>
        </p:nvSpPr>
        <p:spPr>
          <a:xfrm>
            <a:off x="409680" y="347184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necessary  component of an effective, 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56"/>
          <p:cNvSpPr/>
          <p:nvPr/>
        </p:nvSpPr>
        <p:spPr>
          <a:xfrm>
            <a:off x="2085840" y="3817800"/>
            <a:ext cx="1563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7"/>
          <p:cNvSpPr/>
          <p:nvPr/>
        </p:nvSpPr>
        <p:spPr>
          <a:xfrm>
            <a:off x="3809880" y="3747960"/>
            <a:ext cx="1543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58"/>
          <p:cNvSpPr/>
          <p:nvPr/>
        </p:nvSpPr>
        <p:spPr>
          <a:xfrm>
            <a:off x="5486400" y="330984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3"/>
          <p:cNvSpPr/>
          <p:nvPr/>
        </p:nvSpPr>
        <p:spPr>
          <a:xfrm>
            <a:off x="7296120" y="3478320"/>
            <a:ext cx="142416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ight Arrow 33"/>
          <p:cNvSpPr/>
          <p:nvPr/>
        </p:nvSpPr>
        <p:spPr>
          <a:xfrm>
            <a:off x="533520" y="618984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5"/>
          <p:cNvSpPr/>
          <p:nvPr/>
        </p:nvSpPr>
        <p:spPr>
          <a:xfrm>
            <a:off x="857160" y="611496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286000" y="119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3659b1"/>
                </a:solidFill>
                <a:latin typeface="Calibri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685800" y="403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ng to PA Common Core Standards</a:t>
            </a:r>
            <a:br>
              <a:rPr sz="4000"/>
            </a:b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(English Language Arts &amp; Mathematic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341280" y="2133720"/>
            <a:ext cx="8502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1.  Pennsylvania Common Core Standards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PreK-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nglish Language Arts 6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 PreK-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2.  PA Common Core Append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ELA Appendix A-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Calibri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ヒラギノ角ゴ Pro W3"/>
              </a:rPr>
              <a:t>Mathematic Appendix A &amp; B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3.  ELA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4.  Mathematics Assessment Anchors and Eligible Content (Draft Versi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5.  ELA Emphasis Gui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6.  Mathematics Emphasis Guides and Cluster Mat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6"/>
          <p:cNvGrpSpPr/>
          <p:nvPr/>
        </p:nvGrpSpPr>
        <p:grpSpPr>
          <a:xfrm>
            <a:off x="204840" y="1554120"/>
            <a:ext cx="6653160" cy="4410000"/>
            <a:chOff x="204840" y="1554120"/>
            <a:chExt cx="6653160" cy="4410000"/>
          </a:xfrm>
        </p:grpSpPr>
        <p:sp>
          <p:nvSpPr>
            <p:cNvPr id="113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 flipH="1">
              <a:off x="2864520" y="229032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4484880" y="2290320"/>
              <a:ext cx="0" cy="27288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0"/>
            <p:cNvSpPr/>
            <p:nvPr/>
          </p:nvSpPr>
          <p:spPr>
            <a:xfrm>
              <a:off x="5388120" y="229032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 flipH="1">
              <a:off x="1445760" y="2290320"/>
              <a:ext cx="1117440" cy="107784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12"/>
            <p:cNvSpPr/>
            <p:nvPr/>
          </p:nvSpPr>
          <p:spPr>
            <a:xfrm>
              <a:off x="204840" y="337212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3"/>
            <p:cNvSpPr/>
            <p:nvPr/>
          </p:nvSpPr>
          <p:spPr>
            <a:xfrm>
              <a:off x="5702760" y="409572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4"/>
            <p:cNvSpPr/>
            <p:nvPr/>
          </p:nvSpPr>
          <p:spPr>
            <a:xfrm>
              <a:off x="2017080" y="377856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5"/>
            <p:cNvSpPr/>
            <p:nvPr/>
          </p:nvSpPr>
          <p:spPr>
            <a:xfrm>
              <a:off x="3749760" y="5045760"/>
              <a:ext cx="137268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-87480" y="353880"/>
            <a:ext cx="923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Calibri"/>
              </a:rPr>
              <a:t>Overall Char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 depth of knowledge with metacognition development throughout all grade levels (band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cognition development through learning skill acquisition within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yclone of learning that revisits metacognition development (learning strategies) throughout band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"/>
          <p:cNvSpPr/>
          <p:nvPr/>
        </p:nvSpPr>
        <p:spPr>
          <a:xfrm>
            <a:off x="228600" y="250920"/>
            <a:ext cx="689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Rigo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9b1"/>
                </a:solidFill>
                <a:latin typeface="Calibri"/>
                <a:ea typeface="ＭＳ Ｐゴシック"/>
              </a:rPr>
              <a:t>What is Depth of Knowledge (DOK) </a:t>
            </a:r>
            <a:r>
              <a:rPr b="1" lang="en-US" sz="2400" spc="-1" strike="noStrike">
                <a:solidFill>
                  <a:srgbClr val="3659b1"/>
                </a:solidFill>
                <a:latin typeface="Chalkboard Bold"/>
                <a:ea typeface="ＭＳ Ｐゴシック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28680" y="1380960"/>
            <a:ext cx="81532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scale of cognitive demand levels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(thinking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o align standards with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ased on the research of </a:t>
            </a:r>
            <a:r>
              <a:rPr b="0" lang="en-US" sz="2400" spc="-1" strike="noStrike">
                <a:solidFill>
                  <a:srgbClr val="c0504d"/>
                </a:solidFill>
                <a:latin typeface="Calibri"/>
                <a:ea typeface="ＭＳ Ｐゴシック"/>
              </a:rPr>
              <a:t>Norman Webb,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efines the 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eiling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or highest DOK level for each Core Content standard for the state 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88840" indent="-571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Guides item development for state assess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MCj01875870000[1]"/>
          <p:cNvPicPr/>
          <p:nvPr/>
        </p:nvPicPr>
        <p:blipFill>
          <a:blip r:embed="rId2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le 1"/>
          <p:cNvSpPr/>
          <p:nvPr/>
        </p:nvSpPr>
        <p:spPr>
          <a:xfrm>
            <a:off x="457200" y="2746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Webb</a:t>
            </a:r>
            <a:r>
              <a:rPr b="0" lang="ja-JP" sz="37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’</a:t>
            </a:r>
            <a:r>
              <a:rPr b="0" lang="en-US" sz="3700" spc="-1" strike="noStrike">
                <a:solidFill>
                  <a:srgbClr val="3659b1"/>
                </a:solidFill>
                <a:latin typeface="Arial Black"/>
                <a:ea typeface="Arial"/>
              </a:rPr>
              <a:t>s DOK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8680" y="934920"/>
          <a:ext cx="8358120" cy="559620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2192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679B0-9873-4002-BBA0-C38E537342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Arial Black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5880"/>
            <a:ext cx="777240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86516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1233360" y="703440"/>
            <a:ext cx="6143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Exploring 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3659b1"/>
                </a:solidFill>
                <a:latin typeface="Calibri"/>
                <a:ea typeface="ヒラギノ角ゴ Pro W3"/>
              </a:rPr>
              <a:t>The Cognitive Rigor Matrix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659b1"/>
                </a:solidFill>
                <a:latin typeface="Calibri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TextBox 3" descr=""/>
          <p:cNvPicPr/>
          <p:nvPr/>
        </p:nvPicPr>
        <p:blipFill>
          <a:blip r:embed="rId2"/>
          <a:stretch/>
        </p:blipFill>
        <p:spPr>
          <a:xfrm>
            <a:off x="738360" y="3279600"/>
            <a:ext cx="7832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59b1"/>
                </a:solidFill>
                <a:latin typeface="Aharoni"/>
                <a:ea typeface="ＭＳ Ｐゴシック"/>
              </a:rPr>
              <a:t>Producing Cognitive Swea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http://www.scientificamerican.com/media/inline/does-brain-size-matter_1.jpg"/>
          <p:cNvPicPr/>
          <p:nvPr/>
        </p:nvPicPr>
        <p:blipFill>
          <a:blip r:embed="rId2"/>
          <a:stretch/>
        </p:blipFill>
        <p:spPr>
          <a:xfrm>
            <a:off x="2108160" y="1282680"/>
            <a:ext cx="5438880" cy="3473640"/>
          </a:xfrm>
          <a:prstGeom prst="rect">
            <a:avLst/>
          </a:prstGeom>
          <a:ln w="0">
            <a:noFill/>
          </a:ln>
        </p:spPr>
      </p:pic>
      <p:sp>
        <p:nvSpPr>
          <p:cNvPr id="141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838080" y="503712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eting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igor of the Common Co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77720"/>
            <a:ext cx="8229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Continuation of NCLB encouraged by refined educational ideology and direction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Intent: raise educational rigor and achieve state/national standards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48 States adopted Common Core or version thereof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PA has altered Common Core to a minimal extent to  meet existing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a) assessment tools expectations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(b) common language us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ition: expectation for integration of practices in th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013 – 2014 school ye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Driving Forces Leading to </a:t>
            </a:r>
            <a:br>
              <a:rPr sz="3200"/>
            </a:br>
            <a:r>
              <a:rPr b="1" lang="en-US" sz="3200" spc="-1" strike="noStrike">
                <a:solidFill>
                  <a:srgbClr val="3659b1"/>
                </a:solidFill>
                <a:latin typeface="Garamond"/>
              </a:rPr>
              <a:t>CC Literacy Standards for 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sed on a range of national and internationally benchmarked assessments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s are losing momentum during high sch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tudent readiness for college/work at an all time low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adequate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Verbal reasoning abilit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derstanding of words us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ackground knowledge about domains represented in tex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1314360" indent="-514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amiliarity with semantic and syntactic structures that assist with the understanding between relationships and IDE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3C1CD0-5DE1-4C0A-A598-FB3EFD7C07C4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Profile of a Common Core Gradu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560" y="914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onsive to varying audience, task, purpose, and discip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ependent learner able to comprehend and critique works of quality and subst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alue Evidence – relevant suppo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echnology and Digital Med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 other Perspectives/Cul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4572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AA7F6-54EC-4EF8-BF91-D83904ED89F5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3659b1"/>
                </a:solidFill>
                <a:latin typeface="Calibri"/>
              </a:rPr>
              <a:t>Overarching the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upports a high degree of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rigor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and student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ollaborat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 emphasis on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non-fiction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ccurs throughout the grades as well as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increasing the amount of student rea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chnolog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embedded and emphasizes the use of digital resourc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n a daily basis for a variety of purposes is encourage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a prominent addition with exemplar text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pecificity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scaffolding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of standards providing vertical articulation to support </a:t>
            </a: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mplexity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Text connections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re emphasized throughout the grade level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ELA/Literacy Common Core </a:t>
            </a:r>
            <a:br>
              <a:rPr sz="3600"/>
            </a:br>
            <a:r>
              <a:rPr b="1" lang="en-US" sz="3600" spc="-1" strike="noStrike">
                <a:solidFill>
                  <a:srgbClr val="3659b1"/>
                </a:solidFill>
                <a:latin typeface="Calibri"/>
              </a:rPr>
              <a:t>Foc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ndational skill acquired K-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rit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aking &amp; Listen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ngu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ent-area subjects incorporation and cross-curricular implementation for reading &amp; writ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3"/>
          <p:cNvSpPr/>
          <p:nvPr/>
        </p:nvSpPr>
        <p:spPr>
          <a:xfrm>
            <a:off x="685800" y="3254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659b1"/>
                </a:solidFill>
                <a:latin typeface="Calibri"/>
              </a:rPr>
              <a:t>Navigation to Common Core Download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non-English/Math subj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Placeholder 4"/>
          <p:cNvSpPr/>
          <p:nvPr/>
        </p:nvSpPr>
        <p:spPr>
          <a:xfrm>
            <a:off x="1371600" y="2585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ttp://www.corestandards.org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andards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ownloa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mmon Core State Standards Arts &amp; Literacy in History/Social Studies, Science, &amp; Technical Su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21:19Z</dcterms:created>
  <dc:creator>Teacher FCASD</dc:creator>
  <dc:description/>
  <dc:language>en-US</dc:language>
  <cp:lastModifiedBy>Teacher FCASD</cp:lastModifiedBy>
  <dcterms:modified xsi:type="dcterms:W3CDTF">2012-06-04T18:53:13Z</dcterms:modified>
  <cp:revision>23</cp:revision>
  <dc:subject/>
  <dc:title>PA Common Core Standards</dc:title>
</cp:coreProperties>
</file>